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7E7B9-1AB2-4158-913B-77961B088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451-C4EE-4FFF-A3C4-55D391E6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5FE1-FB3B-4CBB-B06B-E2DF947D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7A7A-0D08-41D5-B018-D3253055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E978-8C64-4136-95B3-48752BB67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9CDF-31D6-4C2C-B298-D1996970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CAA4-2DE0-48BE-AD7C-0F960EFD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38FF-C80C-4C5D-BC59-75FCEADD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897-D058-4779-B1D8-3E57D488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F815-D450-4EB3-A34C-9DFD1B9A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9DA2-6ED1-42CF-9B2A-8DEAF663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70C3-A31F-4B78-93B0-0C1EEC30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9F55-4B72-4022-A1BE-7156A320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463CB-D6A7-42C8-94C2-0B9D8B8C2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rankl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07640" y="26607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y Sheppe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sandra Tay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nnifer M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Be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e a white gir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00840" y="1828800"/>
            <a:ext cx="33717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havi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ived for pl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od-natured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pt the finest ale from all 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always had a house full of food open to all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257800" y="2286000"/>
            <a:ext cx="41148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part of the Mercantile/Third E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a rich landowner who lived an eas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14840" y="1924200"/>
            <a:ext cx="385776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9920" y="20970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ngu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heerful and good-nat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ed gen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ell-born, wealthy land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ird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ankl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 wealthy landow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ss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local court procee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curus- a Greek philosopher who taught that the goal of life is pleasure, “sensual delight was the one true felecity in sight”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. Julian- a patron saint of hospitality, “he made his household free to all the coun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book pages. 149-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3:39:48Z</dcterms:created>
  <dc:creator>PCSC</dc:creator>
  <dc:description/>
  <dc:language>en-US</dc:language>
  <cp:lastModifiedBy/>
  <cp:revision>1</cp:revision>
  <dc:subject/>
  <dc:title/>
</cp:coreProperties>
</file>